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drumroll.wav" ContentType="audio/x-wav"/>
  <Override PartName="/ppt/media/image7.gif" ContentType="image/gif"/>
  <Override PartName="/ppt/media/image18.wmf" ContentType="image/x-wmf"/>
  <Override PartName="/ppt/media/image11.gif" ContentType="image/gif"/>
  <Override PartName="/ppt/media/image14.png" ContentType="image/png"/>
  <Override PartName="/ppt/media/image20.gif" ContentType="image/gif"/>
  <Override PartName="/ppt/media/image3.gif" ContentType="image/gif"/>
  <Override PartName="/ppt/media/image19.png" ContentType="image/png"/>
  <Override PartName="/ppt/media/image16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2.png" ContentType="image/png"/>
  <Override PartName="/ppt/media/millionaire.wav" ContentType="audio/x-wav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AA5D-1ECE-4584-A067-63F448FF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2A0C-3F6B-4AE4-BBCB-3224553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5E7E-9FB8-4E9C-B2E1-E4BEE65B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CD35-BA2F-498C-BF15-CA567E7E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6577-9F18-4255-9B41-03EB5BAC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221-09D1-4F09-A7A4-37BAE572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77A6-6C61-4981-BF2D-6B4187C4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228-0D01-4874-9950-DB2A7B06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B321-4A97-44D6-B723-FE2ACF3F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0176-5725-4974-B2DD-F773270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A7C-7C05-4BA5-BA3D-D41DE2B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1882-8B64-457F-BC3D-39F4A17E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1344-6242-4852-A5BA-10470A79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77E-F87A-4A72-97FC-1A69D1FA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A3E5-DDCB-4A72-8367-1EFD64B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F342-1F7D-41B0-BE39-24AA0020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B6C-18DF-424B-A702-E9B2927A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59EC-A262-40A2-9097-81A5034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F18A-87B8-467C-9D1B-6750CD88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E55D-2543-4D29-84A7-6C8A70CC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1498-4F1D-42E3-8A59-AE8FE24E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9DE0-0EE5-4E49-864A-DF069B8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F06D-5D1C-49FC-B870-C37159D5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ADDF-A6B6-4394-9FD6-DCBA64E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A39-0782-4340-899F-41A43F2ECB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B83D-8B5F-4FC3-BB90-2088530474F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9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slide" Target="slide14.xml"/><Relationship Id="rId20" Type="http://schemas.openxmlformats.org/officeDocument/2006/relationships/image" Target="../media/image13.png"/><Relationship Id="rId21" Type="http://schemas.openxmlformats.org/officeDocument/2006/relationships/audio" Target="../media/millionaire.wav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762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" descr="elv4"/>
          <p:cNvPicPr/>
          <p:nvPr/>
        </p:nvPicPr>
        <p:blipFill>
          <a:blip r:embed="rId1"/>
          <a:stretch/>
        </p:blipFill>
        <p:spPr>
          <a:xfrm>
            <a:off x="4343400" y="1590840"/>
            <a:ext cx="4419720" cy="4047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man11"/>
          <p:cNvPicPr/>
          <p:nvPr/>
        </p:nvPicPr>
        <p:blipFill>
          <a:blip r:embed="rId2"/>
          <a:stretch/>
        </p:blipFill>
        <p:spPr>
          <a:xfrm>
            <a:off x="1143000" y="4191120"/>
            <a:ext cx="41338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352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1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Маловато будет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elv4"/>
          <p:cNvPicPr/>
          <p:nvPr/>
        </p:nvPicPr>
        <p:blipFill>
          <a:blip r:embed="rId1"/>
          <a:stretch/>
        </p:blipFill>
        <p:spPr>
          <a:xfrm>
            <a:off x="4724280" y="666720"/>
            <a:ext cx="441972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32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плох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9907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250 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ы отлич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Потрудились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toneSerif SAIN SmBd v.1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названия произведений Пушкина в алфавитном порядке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2824200" cy="35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200" y="2361960"/>
            <a:ext cx="3657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nextslide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данные эпизоды в той же последовательности, что и в романе Пушкина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письмо Татьяны к Онеги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25905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письмо Татьяны к Онегину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0" dur="indefinite" restart="never" nodeType="tmRoot">
          <p:childTnLst>
            <p:seq>
              <p:cTn id="42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479840" y="323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Times New Roman"/>
              </a:rPr>
              <a:t>Игра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 «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Кто хочет стать миллионером?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»</a:t>
            </a:r>
            <a:endParaRPr b="0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2438280" y="2971800"/>
            <a:ext cx="4267440" cy="76212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20901" h="21600">
                <a:moveTo>
                  <a:pt x="0" y="0"/>
                </a:moveTo>
                <a:lnTo>
                  <a:pt x="120901" y="0"/>
                </a:lnTo>
                <a:lnTo>
                  <a:pt x="120901" y="21600"/>
                </a:lnTo>
                <a:lnTo>
                  <a:pt x="0" y="21600"/>
                </a:lnTo>
                <a:close/>
              </a:path>
              <a:path fill="lightenLess" w="120901" h="21600">
                <a:moveTo>
                  <a:pt x="0" y="0"/>
                </a:moveTo>
                <a:lnTo>
                  <a:pt x="120901" y="0"/>
                </a:lnTo>
                <a:lnTo>
                  <a:pt x="119501" y="1400"/>
                </a:lnTo>
                <a:lnTo>
                  <a:pt x="1400" y="1400"/>
                </a:lnTo>
                <a:close/>
              </a:path>
              <a:path fill="darken" w="120901" h="21600">
                <a:moveTo>
                  <a:pt x="120901" y="0"/>
                </a:moveTo>
                <a:lnTo>
                  <a:pt x="120901" y="21600"/>
                </a:lnTo>
                <a:lnTo>
                  <a:pt x="119501" y="20200"/>
                </a:lnTo>
                <a:lnTo>
                  <a:pt x="119501" y="1400"/>
                </a:lnTo>
                <a:close/>
              </a:path>
              <a:path fill="darkenLess" w="120901" h="21600">
                <a:moveTo>
                  <a:pt x="12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01" y="20200"/>
                </a:lnTo>
                <a:close/>
              </a:path>
              <a:path fill="lighten" w="12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2438280" y="3962520"/>
            <a:ext cx="4267440" cy="685800"/>
          </a:xfrm>
          <a:custGeom>
            <a:avLst/>
            <a:gdLst>
              <a:gd name="textAreaLeft" fmla="*/ 44280 w 4267440"/>
              <a:gd name="textAreaRight" fmla="*/ 4223160 w 426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48" h="21600">
                <a:moveTo>
                  <a:pt x="0" y="0"/>
                </a:moveTo>
                <a:lnTo>
                  <a:pt x="134348" y="0"/>
                </a:lnTo>
                <a:lnTo>
                  <a:pt x="134348" y="21600"/>
                </a:lnTo>
                <a:lnTo>
                  <a:pt x="0" y="21600"/>
                </a:lnTo>
                <a:close/>
              </a:path>
              <a:path fill="lightenLess" w="134348" h="21600">
                <a:moveTo>
                  <a:pt x="0" y="0"/>
                </a:moveTo>
                <a:lnTo>
                  <a:pt x="134348" y="0"/>
                </a:lnTo>
                <a:lnTo>
                  <a:pt x="132948" y="1400"/>
                </a:lnTo>
                <a:lnTo>
                  <a:pt x="1400" y="1400"/>
                </a:lnTo>
                <a:close/>
              </a:path>
              <a:path fill="darken" w="134348" h="21600">
                <a:moveTo>
                  <a:pt x="134348" y="0"/>
                </a:moveTo>
                <a:lnTo>
                  <a:pt x="134348" y="21600"/>
                </a:lnTo>
                <a:lnTo>
                  <a:pt x="132948" y="20200"/>
                </a:lnTo>
                <a:lnTo>
                  <a:pt x="132948" y="1400"/>
                </a:lnTo>
                <a:close/>
              </a:path>
              <a:path fill="darkenLess" w="134348" h="21600">
                <a:moveTo>
                  <a:pt x="1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48" y="20200"/>
                </a:lnTo>
                <a:close/>
              </a:path>
              <a:path fill="lighten" w="1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о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116"/>
          <p:cNvPicPr/>
          <p:nvPr/>
        </p:nvPicPr>
        <p:blipFill>
          <a:blip r:embed="rId5"/>
          <a:stretch/>
        </p:blipFill>
        <p:spPr>
          <a:xfrm>
            <a:off x="106668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9"/>
          <p:cNvPicPr/>
          <p:nvPr/>
        </p:nvPicPr>
        <p:blipFill>
          <a:blip r:embed="rId6"/>
          <a:stretch/>
        </p:blipFill>
        <p:spPr>
          <a:xfrm>
            <a:off x="1676520" y="5705640"/>
            <a:ext cx="42840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04"/>
          <p:cNvPicPr/>
          <p:nvPr/>
        </p:nvPicPr>
        <p:blipFill>
          <a:blip r:embed="rId7"/>
          <a:stretch/>
        </p:blipFill>
        <p:spPr>
          <a:xfrm>
            <a:off x="220968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97"/>
          <p:cNvPicPr/>
          <p:nvPr/>
        </p:nvPicPr>
        <p:blipFill>
          <a:blip r:embed="rId8"/>
          <a:stretch/>
        </p:blipFill>
        <p:spPr>
          <a:xfrm>
            <a:off x="2819520" y="5695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16"/>
          <p:cNvPicPr/>
          <p:nvPr/>
        </p:nvPicPr>
        <p:blipFill>
          <a:blip r:embed="rId9"/>
          <a:stretch/>
        </p:blipFill>
        <p:spPr>
          <a:xfrm>
            <a:off x="342900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117"/>
          <p:cNvPicPr/>
          <p:nvPr/>
        </p:nvPicPr>
        <p:blipFill>
          <a:blip r:embed="rId10"/>
          <a:stretch/>
        </p:blipFill>
        <p:spPr>
          <a:xfrm>
            <a:off x="3962520" y="56959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08"/>
          <p:cNvPicPr/>
          <p:nvPr/>
        </p:nvPicPr>
        <p:blipFill>
          <a:blip r:embed="rId11"/>
          <a:stretch/>
        </p:blipFill>
        <p:spPr>
          <a:xfrm>
            <a:off x="4495680" y="5562720"/>
            <a:ext cx="40032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05"/>
          <p:cNvPicPr/>
          <p:nvPr/>
        </p:nvPicPr>
        <p:blipFill>
          <a:blip r:embed="rId12"/>
          <a:stretch/>
        </p:blipFill>
        <p:spPr>
          <a:xfrm>
            <a:off x="5029200" y="5695920"/>
            <a:ext cx="19044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119"/>
          <p:cNvPicPr/>
          <p:nvPr/>
        </p:nvPicPr>
        <p:blipFill>
          <a:blip r:embed="rId13"/>
          <a:stretch/>
        </p:blipFill>
        <p:spPr>
          <a:xfrm>
            <a:off x="5334120" y="55627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99"/>
          <p:cNvPicPr/>
          <p:nvPr/>
        </p:nvPicPr>
        <p:blipFill>
          <a:blip r:embed="rId14"/>
          <a:stretch/>
        </p:blipFill>
        <p:spPr>
          <a:xfrm>
            <a:off x="5867280" y="5705640"/>
            <a:ext cx="428760" cy="46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104"/>
          <p:cNvPicPr/>
          <p:nvPr/>
        </p:nvPicPr>
        <p:blipFill>
          <a:blip r:embed="rId15"/>
          <a:stretch/>
        </p:blipFill>
        <p:spPr>
          <a:xfrm>
            <a:off x="64008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05"/>
          <p:cNvPicPr/>
          <p:nvPr/>
        </p:nvPicPr>
        <p:blipFill>
          <a:blip r:embed="rId16"/>
          <a:stretch/>
        </p:blipFill>
        <p:spPr>
          <a:xfrm>
            <a:off x="7010280" y="5695920"/>
            <a:ext cx="1908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107"/>
          <p:cNvPicPr/>
          <p:nvPr/>
        </p:nvPicPr>
        <p:blipFill>
          <a:blip r:embed="rId17"/>
          <a:stretch/>
        </p:blipFill>
        <p:spPr>
          <a:xfrm>
            <a:off x="73152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85"/>
          <p:cNvPicPr/>
          <p:nvPr/>
        </p:nvPicPr>
        <p:blipFill>
          <a:blip r:embed="rId18"/>
          <a:stretch/>
        </p:blipFill>
        <p:spPr>
          <a:xfrm>
            <a:off x="7924680" y="56386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1">
            <a:hlinkClick r:id="rId19" action="ppaction://hlinksldjump"/>
          </p:cNvPr>
          <p:cNvSpPr/>
          <p:nvPr/>
        </p:nvSpPr>
        <p:spPr>
          <a:xfrm>
            <a:off x="2438280" y="4876920"/>
            <a:ext cx="4267440" cy="914400"/>
          </a:xfrm>
          <a:custGeom>
            <a:avLst/>
            <a:gdLst>
              <a:gd name="textAreaLeft" fmla="*/ 59040 w 4267440"/>
              <a:gd name="textAreaRight" fmla="*/ 4208400 w 4267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0774" h="21600">
                <a:moveTo>
                  <a:pt x="0" y="0"/>
                </a:moveTo>
                <a:lnTo>
                  <a:pt x="100774" y="0"/>
                </a:lnTo>
                <a:lnTo>
                  <a:pt x="100774" y="21600"/>
                </a:lnTo>
                <a:lnTo>
                  <a:pt x="0" y="21600"/>
                </a:lnTo>
                <a:close/>
              </a:path>
              <a:path fill="lightenLess" w="100774" h="21600">
                <a:moveTo>
                  <a:pt x="0" y="0"/>
                </a:moveTo>
                <a:lnTo>
                  <a:pt x="100774" y="0"/>
                </a:lnTo>
                <a:lnTo>
                  <a:pt x="99375" y="1400"/>
                </a:lnTo>
                <a:lnTo>
                  <a:pt x="1400" y="1400"/>
                </a:lnTo>
                <a:close/>
              </a:path>
              <a:path fill="darken" w="100774" h="21600">
                <a:moveTo>
                  <a:pt x="100774" y="0"/>
                </a:moveTo>
                <a:lnTo>
                  <a:pt x="100774" y="21600"/>
                </a:lnTo>
                <a:lnTo>
                  <a:pt x="99375" y="20200"/>
                </a:lnTo>
                <a:lnTo>
                  <a:pt x="99375" y="1400"/>
                </a:lnTo>
                <a:close/>
              </a:path>
              <a:path fill="darkenLess" w="100774" h="21600">
                <a:moveTo>
                  <a:pt x="100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75" y="20200"/>
                </a:lnTo>
                <a:close/>
              </a:path>
              <a:path fill="lighten" w="100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и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 кого поочередно превращался князь Гвидон, когда летал в царство Салтана?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в мух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В: в мух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требования старухи из “Сказки о рыбаке и рыбке”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65760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6560" y="2286000"/>
            <a:ext cx="3809880" cy="38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чудесные дары получил от царевны Лебеди князь Гвидон? Расположить их по порядку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периоды жизни Пушкина в хронологическом порядке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2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2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7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6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7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9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914400" y="685800"/>
            <a:ext cx="236232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200400" y="2362320"/>
            <a:ext cx="266688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638680" y="4114800"/>
            <a:ext cx="2667240" cy="220968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523880" y="1295280"/>
                <a:ext cx="12193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6" descr="SY00629_"/>
          <p:cNvPicPr/>
          <p:nvPr/>
        </p:nvPicPr>
        <p:blipFill>
          <a:blip r:embed="rId1"/>
          <a:stretch/>
        </p:blipFill>
        <p:spPr>
          <a:xfrm>
            <a:off x="6324480" y="4343400"/>
            <a:ext cx="10875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j0301252"/>
          <p:cNvPicPr/>
          <p:nvPr/>
        </p:nvPicPr>
        <p:blipFill>
          <a:blip r:embed="rId2"/>
          <a:stretch/>
        </p:blipFill>
        <p:spPr>
          <a:xfrm>
            <a:off x="3733920" y="2712960"/>
            <a:ext cx="16761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752480" y="91440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</a:t>
            </a:r>
            <a:r>
              <a:rPr b="0" lang="ru-RU" sz="4000" spc="-1" strike="noStrike">
                <a:solidFill>
                  <a:srgbClr val="fcfa9e"/>
                </a:solidFill>
                <a:latin typeface="Rockwell Extra Bold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52480" y="259092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752480" y="426708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5-02-02T15:45:0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